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65DD-349D-43C7-B6FC-2B032CB70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9736-A8FA-43EC-A9B6-A126626E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E080-261A-4222-815E-BD53BB78B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8C26-9CBD-4959-B2C0-5B0876ABB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95F0-A190-4C04-9A3A-E8CB4F3E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D20F-D6CE-4823-9692-DD4AD461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72AD-B4D0-4B1B-BD92-2D4EF523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D0B9-34B5-4F43-8C25-726FAF9E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70CE-B4A0-4C8D-B7A1-2CB7F11A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A1A9-3344-4D64-A3C6-33D9FECB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6C65-54ED-4901-9B41-2A5E220C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0C5C-B01C-4E96-853B-EE30464E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D445-3C45-43EB-823C-21B05DF9D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ocide in 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C (International Criminal Cour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anent tribunal to prosecute individuals for crimes of genocide, crimes against humanity, war crimes and crimes of agg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rimes of Genoc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intent to destroy, in whole or in part, a national, ethnical, racial or religious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rimes against human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murder; extermination; torture; rape; political, racial, or religious pers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ar cri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murder of civilians; ill-treatment or deportation of civilian residents of an occupied territory to slave labor camps; murder or ill-treatment of prisoners of war, killing of prisoners; destruction of cities, towns, and vill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imes of Aggression (201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vasion or attack by the armed forces of a State into the territory of another Sta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mbardment or the use of any weapons by a State against the territory of another Sta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lockade of ports or coasts of a state by the armed forces of another Sta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tion of a State in allowing its territory to be used by another State for perpetrating an act of aggression against a third Sta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 of armed bands or mercenaries which carry out acts of armed force against another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wanda: 19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approximately 100 days, 500,000 people killed (April – Ju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mination of competition between Hutu (majority) and Tutsi (minority)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 of decades of tension and effects of colonialism by Belg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tu Power ide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ed that the Tutsi intended to enslave the Hu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resisted at all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he radio to incite and mobilize the population into ki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d the Tutsi to cock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https://encrypted-tbn1.gstatic.com/images?q=tbn:ANd9GcQ4OsW5IEM6ndQq0TPFvCji5k1_pSpkpVunCXtai-5WccirQUgrDA"/>
          <p:cNvPicPr/>
          <p:nvPr/>
        </p:nvPicPr>
        <p:blipFill>
          <a:blip r:embed="rId1"/>
          <a:stretch/>
        </p:blipFill>
        <p:spPr>
          <a:xfrm>
            <a:off x="2362320" y="223920"/>
            <a:ext cx="426708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https://encrypted-tbn2.gstatic.com/images?q=tbn:ANd9GcSkNZ8t28ECEMNsVnkXiHckGXeaCulY2N5KKDvnFUeza1raECIehw"/>
          <p:cNvPicPr/>
          <p:nvPr/>
        </p:nvPicPr>
        <p:blipFill>
          <a:blip r:embed="rId1"/>
          <a:stretch/>
        </p:blipFill>
        <p:spPr>
          <a:xfrm>
            <a:off x="762120" y="228600"/>
            <a:ext cx="784836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https://encrypted-tbn3.gstatic.com/images?q=tbn:ANd9GcQc3Qw5ZjNr2zqmzmjhdssr9CHrDeOKdeL-WTr9aBn0oHk9UzCW"/>
          <p:cNvPicPr/>
          <p:nvPr/>
        </p:nvPicPr>
        <p:blipFill>
          <a:blip r:embed="rId1"/>
          <a:stretch/>
        </p:blipFill>
        <p:spPr>
          <a:xfrm>
            <a:off x="2133720" y="214200"/>
            <a:ext cx="4513320" cy="64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SUDAN-W2"/>
          <p:cNvPicPr/>
          <p:nvPr/>
        </p:nvPicPr>
        <p:blipFill>
          <a:blip r:embed="rId1"/>
          <a:stretch/>
        </p:blipFill>
        <p:spPr>
          <a:xfrm>
            <a:off x="2057400" y="228600"/>
            <a:ext cx="5168880" cy="64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’s happening in the Sud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ghting started in early 200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 Africans from Darfur rebelled against the country’s Arab Muslim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ted infrastructure improvements, oil revenues, and a standing in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v’t responded by sending in forces to stop the rebell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jaweed militia were paid to fight the reb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jaweed burned villages and raped and killed people in Darf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than 2 million people fled their homes in Darfur to live in refugee camps along the border with C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y and iso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for aid workers to get t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Darfur_refugee_camp_in_Chad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primary rebel groups in Darf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dan Liberation Ar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Justice and Equality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groups consist of black Africans who oppose their treatment under the Arab Muslim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v’t denies the claims that it uses its military to target its own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&amp; US imposed economic sa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ident Bush declared the violence there “genocid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danese gov’t have resisted efforts to stabilize the cou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eacekeeping force of 26,000 African Union and UN troops moved into Sud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’t dictated the terms of the peacekeeping force in Su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Janjaweed1"/>
          <p:cNvPicPr/>
          <p:nvPr/>
        </p:nvPicPr>
        <p:blipFill>
          <a:blip r:embed="rId1"/>
          <a:stretch/>
        </p:blipFill>
        <p:spPr>
          <a:xfrm>
            <a:off x="1143000" y="68580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ANd9GcTtFg_o8gM2roJATePrswasNP2-4O8i7voa7lB07kihkw4Th22K"/>
          <p:cNvPicPr/>
          <p:nvPr/>
        </p:nvPicPr>
        <p:blipFill>
          <a:blip r:embed="rId1"/>
          <a:stretch/>
        </p:blipFill>
        <p:spPr>
          <a:xfrm>
            <a:off x="1295280" y="1143000"/>
            <a:ext cx="647712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this genocid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enocide Convention Article 2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present convention, genocide means any of the following acts committed with intent to destroy, in whole or in part, a national, ethnical, racial or religious group, such as: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) Killing members of the group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) Causing serious bodily or mental harm to members of the group;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) Deliberately inflicting on the group conditions of life calculated to bring about its physical destruction in whole or in par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) Imposing measures intended to prevent births within the group; 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) Forcibly transferring children of the group to another gro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es to the genocide convention are obligated, under the terms of the convention, to prevent genocide when proof is presented, i.e. to mount a humanitarian intervention. This can include the taking of military 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rfur: 10 Years L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600 non-Arab villages bu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n 300,000 de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n 3 million displa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anti-genocide movement exposed the genocide’s survivors, which forced the Khartoum regime to allow a U.N. peacekeeping force and humanitarian assistance into Darf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 still going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dan’s President Omar al Bashir indicted by ICC for crimes of genocide, crimes against humanity, and war cr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vernment of Sudan has not surrendered him to the I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5T03:58:15Z</dcterms:created>
  <dc:creator>Lauren Amorin</dc:creator>
  <dc:description/>
  <dc:language>en-US</dc:language>
  <cp:lastModifiedBy>Administrator</cp:lastModifiedBy>
  <dcterms:modified xsi:type="dcterms:W3CDTF">2013-03-25T11:40:23Z</dcterms:modified>
  <cp:revision>8</cp:revision>
  <dc:subject/>
  <dc:title>Darfur Genocide</dc:title>
</cp:coreProperties>
</file>